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720-E198-4EA8-9A2D-EE3808EC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7B9-F5DA-4667-87D8-E9479986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425-BBDC-4169-94C0-D409C711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B12-F7DE-40CB-B8C0-5FE8FB7A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4649-ECBE-498A-8ACB-46D15E68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D559-A178-4A7E-90E9-69E18720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126C-9251-4376-A110-7FAD8E18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CF24-DEEF-4850-B98F-C37EE3CB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8751-22C8-4EBA-A2CF-84B4DA42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7FD0-6418-4FC8-86C6-5A1A64D2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9D8F-0E2B-4A55-BD93-AF9FEDB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2BC-0D44-49F4-A4F9-9863D75B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DA82-97B0-46EF-9A9B-A3EF770D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D143-353E-49D0-B484-56B86FCA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01BA-AAF1-4972-BE16-853DB421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65E8-CE76-4829-A72A-87722501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53E-145A-4F46-8F54-8667D630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D7C-0109-4EA3-869C-8A344F01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8F7-B7B0-4E13-853A-9B7E3684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605-3E96-4742-BF0C-AE0E7D68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779-96DB-42F6-9BD6-4CBC47D9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8C6-B685-48EB-ABF7-D151574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783-2112-46AA-917F-7E18ECA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41D-4E93-49C2-A897-DCA44F45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2844-2B48-4E32-B6F1-5D78FA2A762D}" type="slidenum"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D192-9816-4C4D-B843-8109452AE8D8}" type="slidenum"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cc"/>
                </a:solidFill>
                <a:latin typeface="Arial"/>
              </a:rPr>
              <a:t>Memória kezelé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Rugalmas partíció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oldás az előbbi problém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gyszerűbb címszámítás miatt célszerű a méretet 2 hatvány egész számú többszörösére választani pl. 20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lső elaprózódás helyett megjelenik a külső elaprózód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ükség van a garbage collectionra, ami a memóriában lévő folyamatokat egymás után rende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 okozta az elaprózódá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hogy a programok nem egyforma memóriaterületet igényeltek, viszont ragaszkodtunk ahhoz, hogy folytonosan helyezzük el őket a memóri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sszuk fel a memóriát egyforma és viszonylag kisméretű egységek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ek a lap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nem folytonos elhelyezkedés miatt nyilván kell tartani, hogy az egyes részek hol helyezkednek el , e célra szolgálnak a laptábl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oprendszer minden egyes folyamat betöltésekor létrehoz a folyamt számára egy táblát, melyben a logikai lapokhoz hozzá rendeli a fizikai lapok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2205000"/>
            <a:ext cx="18734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637000"/>
            <a:ext cx="18734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3068640"/>
            <a:ext cx="18734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3500280"/>
            <a:ext cx="18734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205000"/>
            <a:ext cx="187308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637000"/>
            <a:ext cx="187308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068640"/>
            <a:ext cx="187308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500280"/>
            <a:ext cx="187308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2205000"/>
            <a:ext cx="3585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637000"/>
            <a:ext cx="3585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068640"/>
            <a:ext cx="3585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500280"/>
            <a:ext cx="3585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213372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43640" y="213372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49228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49228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285264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285264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321300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321300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357336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357336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393372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3640" y="393372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4720" y="429264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429264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3280" y="465300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465300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7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4437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okra osztott foly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429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táb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537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okra osztott mem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2421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285264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328464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371628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2421000"/>
            <a:ext cx="93636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852640"/>
            <a:ext cx="936360" cy="12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148360" y="2997000"/>
            <a:ext cx="9363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3716280"/>
            <a:ext cx="936360" cy="115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st már csak azt kell megoldani, hogy hogyan találjuk meg a memóriában az egyes utasítá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ímszámí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ogikai címet formálisan két részre osztj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ső rész adja meg a lapszá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ásodik rész meg a lapon belüli eltol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együk a laptábla lapszámadik sorát, az ott található számérték megmutatja a lap fizikai kezdőcímé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hhez kell hozzáilleszteni a lapon belüli eltolás értéké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2060640"/>
            <a:ext cx="2663640" cy="50472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ázisregisz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35280" y="3500280"/>
            <a:ext cx="43308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350028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1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8360" y="206064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0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3933720"/>
            <a:ext cx="43308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68360" y="393372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4365720"/>
            <a:ext cx="43308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436572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4797360"/>
            <a:ext cx="43308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479736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2060640"/>
            <a:ext cx="2447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010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436572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0720" y="4365720"/>
            <a:ext cx="2448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010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360" y="2060640"/>
            <a:ext cx="647640" cy="647640"/>
          </a:xfrm>
          <a:prstGeom prst="ellipse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93" idx="3"/>
            <a:endCxn id="206" idx="2"/>
          </p:cNvCxnSpPr>
          <p:nvPr/>
        </p:nvCxnSpPr>
        <p:spPr>
          <a:xfrm>
            <a:off x="3347640" y="2313000"/>
            <a:ext cx="577080" cy="72000"/>
          </a:xfrm>
          <a:prstGeom prst="bentConnector3">
            <a:avLst>
              <a:gd name="adj1" fmla="val 4981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6" idx="1"/>
            <a:endCxn id="206" idx="6"/>
          </p:cNvCxnSpPr>
          <p:nvPr/>
        </p:nvCxnSpPr>
        <p:spPr>
          <a:xfrm flipV="1" rot="10800000">
            <a:off x="4571280" y="2277000"/>
            <a:ext cx="577080" cy="106920"/>
          </a:xfrm>
          <a:prstGeom prst="bentConnector3">
            <a:avLst>
              <a:gd name="adj1" fmla="val 4981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6" idx="4"/>
            <a:endCxn id="199" idx="1"/>
          </p:cNvCxnSpPr>
          <p:nvPr/>
        </p:nvCxnSpPr>
        <p:spPr>
          <a:xfrm rot="5400000">
            <a:off x="2103480" y="2439360"/>
            <a:ext cx="1875600" cy="2413440"/>
          </a:xfrm>
          <a:prstGeom prst="bentConnector4">
            <a:avLst>
              <a:gd name="adj1" fmla="val 20138"/>
              <a:gd name="adj2" fmla="val 109458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0" idx="3"/>
            <a:endCxn id="204" idx="1"/>
          </p:cNvCxnSpPr>
          <p:nvPr/>
        </p:nvCxnSpPr>
        <p:spPr>
          <a:xfrm>
            <a:off x="3492000" y="4582800"/>
            <a:ext cx="1585080" cy="1080"/>
          </a:xfrm>
          <a:prstGeom prst="bentConnector2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5076720" y="155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6 bites 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386064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6 bites FIZ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Címszámítás pél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gyük fel hogy a logikai cím 16 bites, azaz 2</a:t>
            </a:r>
            <a:r>
              <a:rPr b="0" lang="hu-HU" sz="2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= 65536 sort címezhetünk 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a lap mérete 2</a:t>
            </a:r>
            <a:r>
              <a:rPr b="0" lang="hu-HU" sz="2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= 2048 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bből kiszámítható hogy 65536/2048 = 32 db lapunk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az a lapok kiválasztására 5, míg a lapon belüli sor kiválasztására 11 bit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ogikai cím :00010|10110101110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lapcím: 0010, eltolás 1011010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gyük fel, hogy a laptábla 00010 (=2) sorában az 10111 (=23) számérték található, azaz a keresett memóriahely fizikai címe: 10111|1011010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Virtuális tárkezel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alóságos memóriakezelésnek 3 fontosabb problémája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cesszor ímzési kapacitása is olyan nagy, amekkorát nem akarunk kiépíteni (pl. 32 bites proci címtartománya 4G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ok folyamathoz nagyon nagy memóriára van szük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 a betöltési és felfügesztési folyamatok ide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Virtuális tárkezel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olyamatokra igaz az ún. lokalitási elv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egy program adott pontján vagyunk, akkor nagy valószínűséggel, viszonylag hosszú ideig ennek a pontnak egy nem túl tág környezetében fogunk marad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bből következik, hogy nincs szükség a teljes programkódot mindig a memóriában tarta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poknak egyszerre csak egy részhalmaza van bent az operatív memóri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Arial"/>
              </a:rPr>
              <a:t>Virtuális tárkezelés - címszámítá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773360"/>
            <a:ext cx="2808360" cy="503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szá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19640" y="1773360"/>
            <a:ext cx="2520720" cy="503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on belüli elto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3645000"/>
            <a:ext cx="1656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ezdőcí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364500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zérl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59640" y="177336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220500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59640" y="263700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306864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350028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59640" y="393372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436572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59640" y="479736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59640" y="522936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566100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00000" y="4076640"/>
            <a:ext cx="165600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56000" y="407664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4508640"/>
            <a:ext cx="1656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450864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4941720"/>
            <a:ext cx="165600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494172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5373720"/>
            <a:ext cx="1656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537372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134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8800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p. mem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2708280"/>
            <a:ext cx="505080" cy="504720"/>
          </a:xfrm>
          <a:prstGeom prst="ellipse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20" idx="1"/>
            <a:endCxn id="236" idx="1"/>
          </p:cNvCxnSpPr>
          <p:nvPr/>
        </p:nvCxnSpPr>
        <p:spPr>
          <a:xfrm flipH="1" flipV="1" rot="10800000">
            <a:off x="610920" y="2025360"/>
            <a:ext cx="289440" cy="2699280"/>
          </a:xfrm>
          <a:prstGeom prst="bentConnector3">
            <a:avLst>
              <a:gd name="adj1" fmla="val -7907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21" idx="2"/>
            <a:endCxn id="244" idx="0"/>
          </p:cNvCxnSpPr>
          <p:nvPr/>
        </p:nvCxnSpPr>
        <p:spPr>
          <a:xfrm flipH="1" rot="16200000">
            <a:off x="4572000" y="2383920"/>
            <a:ext cx="432360" cy="216720"/>
          </a:xfrm>
          <a:prstGeom prst="bentConnector3">
            <a:avLst>
              <a:gd name="adj1" fmla="val 49583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 flipV="1">
            <a:off x="1979640" y="2924280"/>
            <a:ext cx="2663640" cy="172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4" idx="6"/>
            <a:endCxn id="228" idx="1"/>
          </p:cNvCxnSpPr>
          <p:nvPr/>
        </p:nvCxnSpPr>
        <p:spPr>
          <a:xfrm>
            <a:off x="5148360" y="2960280"/>
            <a:ext cx="1512000" cy="756360"/>
          </a:xfrm>
          <a:prstGeom prst="bentConnector3">
            <a:avLst>
              <a:gd name="adj1" fmla="val 4998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Valóságos tárkezel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ögzitett cím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helyezhető cím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lapoló módszer (overl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árcsere (swapp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llandó partí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ugalmas partí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ozás (pa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Címszámítá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ogikai címet most is két részre oszt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pszám segítségével megnézzük a laptábla megfelelő sorában a present bitet, ha azt mutatja, hogy a memóriában van, akkor hasonlóan járunk el mint az elöb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azt mutatja, hogy a lap még nincs betöltve akkor azt be kell tölteni, ez a laphi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gény szerinti lap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őretekintő lap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csere algoritmuso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2060640"/>
            <a:ext cx="2808360" cy="504720"/>
          </a:xfrm>
          <a:prstGeom prst="flowChartProcess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móriahivatkozá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19640" y="4653000"/>
            <a:ext cx="2808360" cy="504720"/>
          </a:xfrm>
          <a:prstGeom prst="flowChartProcess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 felszabadít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5516640"/>
            <a:ext cx="2808360" cy="504720"/>
          </a:xfrm>
          <a:prstGeom prst="flowChartProcess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 betöl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9640" y="2060640"/>
            <a:ext cx="2808360" cy="504720"/>
          </a:xfrm>
          <a:prstGeom prst="flowChartProcess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szolgálá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3141720"/>
            <a:ext cx="3168720" cy="431640"/>
          </a:xfrm>
          <a:prstGeom prst="flowChartPreparation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móriában v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4076640"/>
            <a:ext cx="3168720" cy="432000"/>
          </a:xfrm>
          <a:prstGeom prst="flowChartPreparation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an üres hely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2" idx="2"/>
            <a:endCxn id="256" idx="0"/>
          </p:cNvCxnSpPr>
          <p:nvPr/>
        </p:nvCxnSpPr>
        <p:spPr>
          <a:xfrm>
            <a:off x="2376000" y="2565000"/>
            <a:ext cx="35640" cy="577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6" idx="2"/>
            <a:endCxn id="257" idx="0"/>
          </p:cNvCxnSpPr>
          <p:nvPr/>
        </p:nvCxnSpPr>
        <p:spPr>
          <a:xfrm>
            <a:off x="2410920" y="3573360"/>
            <a:ext cx="1080" cy="5040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7" idx="2"/>
            <a:endCxn id="254" idx="0"/>
          </p:cNvCxnSpPr>
          <p:nvPr/>
        </p:nvCxnSpPr>
        <p:spPr>
          <a:xfrm flipH="1">
            <a:off x="2375640" y="4508640"/>
            <a:ext cx="35640" cy="10087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6" idx="3"/>
          </p:cNvCxnSpPr>
          <p:nvPr/>
        </p:nvCxnSpPr>
        <p:spPr>
          <a:xfrm>
            <a:off x="3995640" y="3357360"/>
            <a:ext cx="2664720" cy="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endCxn id="255" idx="2"/>
          </p:cNvCxnSpPr>
          <p:nvPr/>
        </p:nvCxnSpPr>
        <p:spPr>
          <a:xfrm flipV="1" rot="16200000">
            <a:off x="6245280" y="2943360"/>
            <a:ext cx="793080" cy="35640"/>
          </a:xfrm>
          <a:prstGeom prst="bentConnector3">
            <a:avLst>
              <a:gd name="adj1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4" idx="2"/>
          </p:cNvCxnSpPr>
          <p:nvPr/>
        </p:nvCxnSpPr>
        <p:spPr>
          <a:xfrm flipH="1" flipV="1" rot="5400000">
            <a:off x="3186000" y="2547360"/>
            <a:ext cx="2664360" cy="4284000"/>
          </a:xfrm>
          <a:prstGeom prst="bentConnector4">
            <a:avLst>
              <a:gd name="adj1" fmla="val -8581"/>
              <a:gd name="adj2" fmla="val 14939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7" idx="3"/>
            <a:endCxn id="253" idx="0"/>
          </p:cNvCxnSpPr>
          <p:nvPr/>
        </p:nvCxnSpPr>
        <p:spPr>
          <a:xfrm>
            <a:off x="3995280" y="4292280"/>
            <a:ext cx="2629800" cy="36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3" idx="2"/>
          </p:cNvCxnSpPr>
          <p:nvPr/>
        </p:nvCxnSpPr>
        <p:spPr>
          <a:xfrm flipV="1" rot="16200000">
            <a:off x="4445640" y="2977920"/>
            <a:ext cx="144720" cy="4214160"/>
          </a:xfrm>
          <a:prstGeom prst="bentConnector4">
            <a:avLst>
              <a:gd name="adj1" fmla="val -158603"/>
              <a:gd name="adj2" fmla="val 6664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92436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3716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95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n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8436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24000" y="162864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00720" y="1484280"/>
            <a:ext cx="64764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kiosztási elve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2205000"/>
            <a:ext cx="2376360" cy="719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ENL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3357720"/>
            <a:ext cx="2376360" cy="71892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RÁNY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8000" y="4724280"/>
            <a:ext cx="2376360" cy="719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IORITÁ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3141720"/>
            <a:ext cx="2087640" cy="1295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ámítógép felépítéséből adódó korl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16720" y="3141720"/>
            <a:ext cx="2087640" cy="1295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emória méretéből adódó korl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7280" y="335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6000" y="342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csere stratégiá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ptimális straté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őbb jött előbb m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grégebben haszná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ásodik esé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ostanában nem haszná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Az optimális stratégia (OP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t a lapot kell lecserélni, amelyre a legkésőbb lesz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lgoritmus nagy hibája, hogy előre kellene tudni, hogy későbiekben milyen sorrendben fogunk a lapokra hivatk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Gyakorlatban megvalósíthatat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Az alábbi példa egy 9 lapos folyamatról szól az op rendszer 3 keretet biztosít. A folyamat a 6 8 3 8 6 0 3 6 3 5 3 6 sorrendben hivatkozik lapjaira, induláskor egy lap sincs b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600200"/>
          <a:ext cx="8197920" cy="3560400"/>
        </p:xfrm>
        <a:graphic>
          <a:graphicData uri="http://schemas.openxmlformats.org/drawingml/2006/table">
            <a:tbl>
              <a:tblPr/>
              <a:tblGrid>
                <a:gridCol w="1378080"/>
                <a:gridCol w="568080"/>
                <a:gridCol w="568440"/>
                <a:gridCol w="568440"/>
                <a:gridCol w="568080"/>
                <a:gridCol w="568440"/>
                <a:gridCol w="568440"/>
                <a:gridCol w="568080"/>
                <a:gridCol w="568440"/>
                <a:gridCol w="568440"/>
                <a:gridCol w="568080"/>
                <a:gridCol w="568440"/>
                <a:gridCol w="568440"/>
              </a:tblGrid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Előbb jött, előbb megy - FIF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t a lapot kell lecserélni, amely legrégebben van bent a memóri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közelítőleg olyan hatékony mint az optimá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frissen behozott lap sorszáma bekerül a FIFO sor végére, ezáltal a már bentlévő lapsorszámok eggyel előre lépnek, és a sor másik végén kipotyog a legrégebbi lap sorszá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Előbb jött, előbb megy - FIF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383120"/>
                <a:gridCol w="570240"/>
                <a:gridCol w="570600"/>
                <a:gridCol w="570960"/>
                <a:gridCol w="570240"/>
                <a:gridCol w="570600"/>
                <a:gridCol w="570600"/>
                <a:gridCol w="570240"/>
                <a:gridCol w="570600"/>
                <a:gridCol w="570600"/>
                <a:gridCol w="570240"/>
                <a:gridCol w="570600"/>
                <a:gridCol w="5706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egrégebben használt - LR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t a lapot kell lecserélni, amelyre legrégebben hivatkozott a folya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ükséges hardver támogatás kell a nyilvántartásh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evés laphibát eredményez, de nagy adminisztrációs ter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egrégebben használt - LR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383120"/>
                <a:gridCol w="570240"/>
                <a:gridCol w="570600"/>
                <a:gridCol w="570960"/>
                <a:gridCol w="570240"/>
                <a:gridCol w="570600"/>
                <a:gridCol w="570600"/>
                <a:gridCol w="570240"/>
                <a:gridCol w="570600"/>
                <a:gridCol w="570600"/>
                <a:gridCol w="570240"/>
                <a:gridCol w="570600"/>
                <a:gridCol w="5706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Rögzitett címz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míg egy számítógépen csak egy felhasználó dolgozhatott és csak egyetlen kicsi programot futtathatott, a memória kezelés nem vold g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prendszer állandó területen helyezkedett el a program meg használhata a maradék memóri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rvédelem: azt kell figyelni, hogy egy adott, az ún. hátárregiszterben tárolt címnél kisebbet a felhasználói program ne érhesen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Második esély (Second Chance – SC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ljárás a FIFO elven alapul, egy kis kiegészítés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laphoz helyezzünk el egy ún. hivatkozás bitet, amelyet ha a lapot használjuk, automatikusan 1-esbe állítun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hiba esetén ha a sor elején lévő lap hiv. bitje 1 akkr tegyük a sor végére 0 –ás bittel, és dobjuk ki a következő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Mostanában nem használ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LRU módszer enyhített, könnyebben megvalósítható változ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csere esetén, ha lehetséges akkor azok közül kell választani, melyek a használt bitje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thelyezhető címz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ső korlát, amibe az előző címzés ütközött, az volt, hogy az oprendszer mérete nem volt álland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miatt kezdetben állandóan módosítani kellett a programozónak a programjai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oldás egyszerű: nem követlen fizikai címeket generált a program, hanem relatív címe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mogatásához találták ki az ún. bázisregiszt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 regiszter tartalmazta a program kezdő címét a báziscí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thelyezhető címz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2060640"/>
            <a:ext cx="1943280" cy="35290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mó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4221000"/>
            <a:ext cx="194328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2060640"/>
            <a:ext cx="1943280" cy="72072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ázisregisz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365720"/>
            <a:ext cx="1943280" cy="72072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141720"/>
            <a:ext cx="936720" cy="934920"/>
          </a:xfrm>
          <a:prstGeom prst="ellipse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3"/>
            <a:endCxn id="111" idx="0"/>
          </p:cNvCxnSpPr>
          <p:nvPr/>
        </p:nvCxnSpPr>
        <p:spPr>
          <a:xfrm>
            <a:off x="3058920" y="2421000"/>
            <a:ext cx="973800" cy="7214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10" idx="3"/>
            <a:endCxn id="111" idx="4"/>
          </p:cNvCxnSpPr>
          <p:nvPr/>
        </p:nvCxnSpPr>
        <p:spPr>
          <a:xfrm flipV="1">
            <a:off x="3058920" y="4076280"/>
            <a:ext cx="973800" cy="65016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1" idx="6"/>
            <a:endCxn id="108" idx="1"/>
          </p:cNvCxnSpPr>
          <p:nvPr/>
        </p:nvCxnSpPr>
        <p:spPr>
          <a:xfrm>
            <a:off x="4500360" y="3610080"/>
            <a:ext cx="1224360" cy="972000"/>
          </a:xfrm>
          <a:prstGeom prst="bentConnector3">
            <a:avLst>
              <a:gd name="adj1" fmla="val 4991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14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iz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tlapoló módszer (overlay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ddigi programok kicsik voltak és teljes egészükben befértek a memóriá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agyobb programok használatához úgy kellett a feladatokat szervezni, hogy olyan blokkokból álljon melyek elférnek a memóri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lyen programokhoz az oprendszer semmiféle támogatást nem ad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ttértár először vesz rész a program futásában aktív szereplőké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tlapoló módszer (overlay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013360"/>
            <a:ext cx="151308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5300640"/>
            <a:ext cx="151308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5805360"/>
            <a:ext cx="1513080" cy="7192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133720"/>
            <a:ext cx="1584360" cy="2590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2133720"/>
            <a:ext cx="1584360" cy="2590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2133720"/>
            <a:ext cx="1584000" cy="2590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4005360"/>
            <a:ext cx="1584360" cy="718920"/>
          </a:xfrm>
          <a:prstGeom prst="rect">
            <a:avLst/>
          </a:prstGeom>
          <a:solidFill>
            <a:srgbClr val="629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aaac6"/>
                </a:solidFill>
                <a:latin typeface="Arial"/>
              </a:rPr>
              <a:t>Oprendszer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72360" y="4005360"/>
            <a:ext cx="1584360" cy="718920"/>
          </a:xfrm>
          <a:prstGeom prst="rect">
            <a:avLst/>
          </a:prstGeom>
          <a:solidFill>
            <a:srgbClr val="629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aaac6"/>
                </a:solidFill>
                <a:latin typeface="Arial"/>
              </a:rPr>
              <a:t>Oprendsz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4005360"/>
            <a:ext cx="1584000" cy="718920"/>
          </a:xfrm>
          <a:prstGeom prst="rect">
            <a:avLst/>
          </a:prstGeom>
          <a:solidFill>
            <a:srgbClr val="629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aaac6"/>
                </a:solidFill>
                <a:latin typeface="Arial"/>
              </a:rPr>
              <a:t>Oprendsz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429000"/>
            <a:ext cx="158436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429000"/>
            <a:ext cx="158436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429000"/>
            <a:ext cx="158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781360"/>
            <a:ext cx="1584360" cy="647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. 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997360"/>
            <a:ext cx="1584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.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2421000"/>
            <a:ext cx="1584360" cy="1008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. 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5013360"/>
            <a:ext cx="151272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5300640"/>
            <a:ext cx="151272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805360"/>
            <a:ext cx="1512720" cy="7192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5013360"/>
            <a:ext cx="151308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5300640"/>
            <a:ext cx="151308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5805360"/>
            <a:ext cx="1513080" cy="7192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Tárcsere (swapp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övetkező kihívás az amikor több felhasználó programjának a futtatását kell bitosítani, egymástól független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felhasználó kap egy időszeletet, majd ha az lejárt akkor az oprendszer az egész memória területet a háttértárra másolja és onnan betölti a következő felhasználóhoz tartozó memória tartal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swapping, a keletkező állományt cserefájl-nak (swap file) nevezz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cesszor ütemezéshez hasonlóan itt sem mindegy mekkora az idősz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llandó partíció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 történik akkor ha az éppen futó folyamat várakozni kényszerü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állandóan több folyamat tartózkodhatna a memóriában, egyszerű lenne a dolog csak át kell kapcsolni a másik program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oldás osszuk fel a memóriát egymástól független részekre partíciók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kkora legyen ez a partíció, ha túl kicsi akkor nem bíztos hogy belefér a program, ha túl nagy akkor sok kihasználatlan terület leh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 belső elaprózódásnak (internal fragment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omoly feladat hárul az oprendszerek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öntést kell hoznia, hogy a futásra váró programok közül melyik kapjon meg egy felszabaduló particíó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CFS esetén fenn áll a veszélye annak, hogy kicsi program nagy particíót foglal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0:11:00Z</dcterms:created>
  <dc:creator>Nagymáté Péter</dc:creator>
  <dc:description/>
  <dc:language>en-US</dc:language>
  <cp:lastModifiedBy>Nagymáté Péter</cp:lastModifiedBy>
  <dcterms:modified xsi:type="dcterms:W3CDTF">2003-12-04T12:57:10Z</dcterms:modified>
  <cp:revision>11</cp:revision>
  <dc:subject/>
  <dc:title>Memória kezelés</dc:title>
</cp:coreProperties>
</file>